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350530"/>
        <c:axId val="52177483"/>
      </c:barChart>
      <c:catAx>
        <c:axId val="233505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77483"/>
        <c:crosses val="autoZero"/>
        <c:auto val="1"/>
        <c:lblAlgn val="ctr"/>
        <c:lblOffset val="100"/>
        <c:noMultiLvlLbl val="0"/>
      </c:catAx>
      <c:valAx>
        <c:axId val="52177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3505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B8E-1CDD-4294-8B99-5F773763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AA77-2ED0-451B-B622-C70DD537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FF13-A649-452F-AFF3-0E592DC7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882-4754-4566-8096-9C744C73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FBEB-687B-4822-BF22-553501F9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744-5A99-4463-A34A-CF1ED0C5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093E-C16D-43F4-A885-F9C0F11B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1606-2F3E-478D-96D7-B63148CEC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D00A-CC7F-4C4F-838C-BB8877D21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9B4-BE4A-4D37-A284-00382B95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463F-5F61-4242-A0D7-5FCD81D7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F06-3A7F-496B-855C-42F07128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097BD9-F095-452B-AD8C-38EE6C534A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