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96182"/>
        <c:axId val="77686910"/>
      </c:barChart>
      <c:catAx>
        <c:axId val="46896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86910"/>
        <c:crosses val="autoZero"/>
        <c:auto val="1"/>
        <c:lblAlgn val="ctr"/>
        <c:lblOffset val="100"/>
        <c:noMultiLvlLbl val="0"/>
      </c:catAx>
      <c:valAx>
        <c:axId val="77686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96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D81-56FF-4B01-A179-B5CF1465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4ED-5CB8-4AD9-BFF8-BFBC2B1E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183-64FB-4342-A9B9-BB502AC0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BE0-26FA-4C91-A238-6D3712E1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88E-2A5F-4D94-B070-1ADD9900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128-C70C-4AB7-85D4-274AD551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DFC-277B-4FBC-9F90-70E28FD2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6F0-8669-4C60-B411-8086E4FE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EF7-A789-446C-8005-0E58BC1C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71D-4307-46A4-8B51-A56893C1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59B-38E9-4436-B0E8-1A84637C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DDA-676B-4F7C-BCDB-588E18D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406BF-2839-4156-A992-A5479F9671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