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09176"/>
        <c:axId val="89208571"/>
      </c:barChart>
      <c:catAx>
        <c:axId val="24709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8571"/>
        <c:crosses val="autoZero"/>
        <c:auto val="1"/>
        <c:lblAlgn val="ctr"/>
        <c:lblOffset val="100"/>
        <c:noMultiLvlLbl val="0"/>
      </c:catAx>
      <c:valAx>
        <c:axId val="89208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09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E35-41D1-444C-9676-A66710D8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137-5181-4748-BD11-EE0BE4EE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6E7-BC06-4F8C-9DDF-1BC8DDA0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F47-3035-4897-87C9-6C0E974B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3018-BC08-470D-8B1F-79E422A7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D477-1511-446B-ACEE-CC1E577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FE0-216B-4143-ACBB-686A3300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FCC-D72B-4DE2-8659-276DB95E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D46-F475-4F9C-A526-E2153C8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771-6300-4847-B75A-9203697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776-340F-4937-94E9-6356D2AD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7F1-42FE-433F-B6CB-BD56F72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FA0C3-956E-4510-B763-0FD6CE4BBE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