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47280"/>
        <c:axId val="75395830"/>
      </c:barChart>
      <c:catAx>
        <c:axId val="36347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95830"/>
        <c:crosses val="autoZero"/>
        <c:auto val="1"/>
        <c:lblAlgn val="ctr"/>
        <c:lblOffset val="100"/>
        <c:noMultiLvlLbl val="0"/>
      </c:catAx>
      <c:valAx>
        <c:axId val="75395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47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567-D82A-4668-8181-B0561A27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917-3D1A-4C67-9D26-201B7A14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7AE-0531-461D-8E9D-DCD70B29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9FF-1FA7-4E0D-B694-97DDEEBA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FB1-2C0B-4BCB-B04F-D366AFA6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D6B-1DD6-4DF1-8109-44566B0A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207-9C4A-435B-BB1E-9A783E01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FB0-A072-4432-881F-BB533B92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BE5-1CD9-4B80-ABC5-3653089C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3FA-C513-4AB5-8C44-DDB4C30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8AE-06D6-4954-B4F9-608910C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8F6-D35D-4C7F-9639-B9467C1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28C54-8578-488B-8EAD-3DB73DFF83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